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EAE-5112-4B86-B301-3C7D5C8B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296-5BD8-4ED4-BC88-9F15736E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53E31-48FC-443C-AC34-38BB0330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6CCB6-BBB2-45CD-B03C-ECAE961E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5FE12-D390-4DB1-AD43-06F1BB4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D3489-5C48-4B27-9D47-6B00CED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B833-D407-4466-93CC-D180BEF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80C77-8920-48E7-A33E-2BBE692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723C5-54BD-4D3D-B6EE-A088A3B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3363-CF7C-48C4-8501-0E09BA9D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8312-BCD7-4849-8EB0-61F31097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AAAA-25E2-444A-B5D0-2E6E4EF8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B6E-AA38-4EAF-A1E5-3389EF69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64BF3-9A3B-4CC8-8B30-C20C4E4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CCA55-3616-477B-B67E-B262A9B7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C7FF-DAF4-4C9A-94B6-6F9D5578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FF0B8-CB7D-4884-9906-01F4540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B6C74-35E5-40E7-992F-7F88E6A2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B2681-827B-4791-AC2A-73A8FA2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30DF0-279A-4F91-BEBE-ACC1F8F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3B67-EE71-4FF7-AA16-5097A1C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76A2B-F601-46BA-9AC1-401B8381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4A1DA-654E-40F1-BC20-7499FC3A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C9E-9299-4DAD-B699-D9FD43E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5AD7-6BDC-4BD6-B3A2-791AB67A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B0A7C-50D7-4462-9DB9-D013BF66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DF809-FDDB-4586-AADF-8B6DB1E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4E4E-4E14-4FE0-9A09-43A12A4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2AA8-5E8D-41D1-AADD-EFC54F0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21E8D-9DC9-4354-AF2E-8969F46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0D4C1-0FE7-4418-B359-FCCFCFC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1D080-17A2-45E9-9A70-81236CC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79BC9-6C6F-4B9C-8842-BDE3188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CCE1-1F8C-4DA1-8A63-1293310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BBF-1955-4CC0-9C34-97D1E00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4D4AE-C85E-4901-950C-1892AACA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3F0B-7C32-49E0-8194-54250620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8AD41-7AA4-4AFC-A85F-4D1A099B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03094-9791-4D38-920E-F2605A7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93CF8-686A-4F3B-B905-AEEC4CF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7E73E-9325-49CE-BB6A-5F3B850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30737-8C08-4F36-8DA7-BD1E5CF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E7103-93E4-4BC3-91DD-DD6CB47C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F09FD-3C70-4F88-9DFA-C44F87B2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A3AD4-F5B4-4D62-AF36-01C4EDA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19A-563D-4236-BECE-CE44A120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929C3-6BDF-4E16-96A3-550C508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D484E-4562-4CFB-909D-4F9811AC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115D2-A48E-4104-8DCF-5FE3916F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4856F-5591-4A39-9B9A-B462D4FD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A2397-D458-4E64-A260-4E30FF7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4B6-313C-431E-AE73-6AC7BD2D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7742-1F03-443A-AA6B-B1ED4E1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6E1-E8AA-4FB0-B37A-9D9E75D4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BE4A-0342-4BE1-BCAF-796E435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91A-EE7E-4992-89B7-5BF5220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5C8-461A-4569-B3FF-4D0640C5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CC7-C871-4896-ABDA-1A447A3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2BB-B559-4E22-A67B-AD329D8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B532-55CC-47A7-A2C8-7B73BCC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0A2-40E6-434A-90B9-7CA7C83C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AE8B-8701-4649-8FE7-B92F9D0B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D39E-C490-44C4-8137-01AC4652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0C16-1130-4921-ADA9-60DD7912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DA7D-DF31-401F-BAEB-F8AB757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FDC3-4B0C-4F82-9E5E-5A5DB77A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DA41-5622-4B2A-8216-E1CB175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C20-A33F-41E0-BDBC-7512E81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7471-2AA0-4EDF-8628-C6D2ACC8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39A0-3D48-48D5-8F67-D8F5D15B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33CC-7807-43C0-AF44-95E9F19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BC21-70FA-4C3B-9158-7B7657B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0E8D-B6AE-49BF-A2CF-57AFA9EB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7AD8-B9C6-453D-ABB4-109783F2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B9D4-9222-4BD2-84F5-EAD6FDF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C9D2-1AF9-4AC8-9752-E7F442D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B8FA-10F9-44AF-A19C-20DC9EE1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185C-2265-44D1-AC68-0C72A88D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D2A-77DE-4A70-AB1F-24C9E08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94B9-E59A-4A55-BD8D-A18AD54B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02B8-EE2A-4C46-9DFC-A81F2E0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9EE9-40DD-4327-ACD9-A960AB1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A6D4-7979-430C-A0A5-7FB36AA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78BC-BE94-41C1-B914-D0BE65F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F27B-3FBE-40B9-A793-625F49F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FAF1-AB28-49EE-972A-0B49B283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7236-BAD2-43B3-8FAC-B6DBE887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6641-75E3-4873-8CF9-1FE67A80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E26E-66EE-481B-8A62-EDC77CA9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D56-1087-4257-97A1-0F3C4E2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FB92-5A38-4F45-A209-533AC51C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F4126-BAD4-40C5-BE46-32B0BDFC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554A-44F1-421A-AB84-F52E1259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BD9B-9C9E-4BA4-A2D9-D8DEA9E3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A7F6-0E47-4A72-A943-29254A63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EE76-8A90-4950-9A11-384866B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FB213-C018-434E-9944-67B5464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6585-983D-4E22-9879-DCEEDC72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BF35-FAE6-4A08-812C-9A79748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FF39-37B8-4607-BC88-E1FC4881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6DE-54BC-415F-8EEC-0BAF68F8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09B7-A263-4991-BFB7-1A537727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0CCD-7B0E-48E2-894A-31DA24C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FCE0-5600-4AAE-A8A5-2409711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2F87-D9C4-417A-87D9-671F8BD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2BA0-F109-4470-B438-EF38442C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1E56-0CDE-4EC2-80C8-015CC42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2186B-DACD-44F6-9B06-94E3208D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3230-0AC0-4618-A206-0FA9CC4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CB33-3A54-4750-AF26-2FCA08E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9CB0-6191-4E13-9975-ABBBB4D6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202-B4EB-4F10-A088-820C9EC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7892-FCF0-4E56-A160-2CECD39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310A-E232-460C-B284-E4635D2F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EA71-59DB-4C60-B9EC-8FB5AE25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D6DE-200B-4676-A282-7B2454E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510F0-215B-4D29-A417-7298678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5AB2-7F59-4719-9682-9F029814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FC07-E9C7-4145-9783-7770801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29625-3AC9-47A6-BDB3-E6EBE1F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7804-91E6-4341-8CF0-C061A256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697F-ADF2-4F85-A16C-3C7E660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457-2EB1-49E9-A1F7-CACC58B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FAC2-EF79-4712-8C05-F5A2F6A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F853-F4FC-4BD3-9019-EBBC402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BF09-ED4B-4BFE-B65E-B57F515C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4A89-2574-4C04-9B43-17EB843C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2093-1AC3-4F99-B998-833E19B4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8EAC8-26B6-42D7-ABF9-6A22C939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724EB-EEB3-48EC-81C3-3F8B4B2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8DDC-6A64-4058-A64D-83E75599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E6CE8-82DA-4DDF-B9AF-F284589C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CABA-BB06-4C1C-AC7B-1FEF545D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C4E-1E72-4C6C-9377-FE0BF60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9543-26F3-4F59-B7EB-A433CCF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65D5-F46E-4F8C-85BB-40F5F3F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5848-4403-475F-A52F-478A8B4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840F-3C15-4D7D-8BBA-4E2531B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81A8-B906-484D-9E6D-7C0D7D3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78D01-B7D5-40C8-8F9C-61FD0433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D6EDB-7543-4DE5-9487-85617681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15D0D-D479-468D-9727-029973E3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BF310-D2AB-44F4-B5B6-0A0CAE7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7D8A3-DE4A-4150-AD95-F4577AB3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627-E4A1-4E5C-93FC-FECF008540F5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2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03C4-BE3E-48D2-B77B-BACBC6887639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8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55A-6824-458C-A475-A5915258EDB3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763-8356-4A1D-82F9-772A415BAA8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595-6E97-4EC0-A46F-013D1B704954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6665-0F3F-4751-944D-11D0D357ABCF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B68-68DD-47E2-BCED-2F06F1F2246B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ABB2-8D08-4C73-915D-5C6CA047CFE8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0A3-537B-435E-B951-F438E5EAFFDF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77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705-2EBD-411F-944F-3C525326C926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32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B415-C743-4E14-B4C1-C57F56B7109D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6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AC9-248C-43D9-BC9D-80DCD2FB3525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Fais ton « portrait dans l’avenir » en indiquant tes objectifs personnel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utilise des mots, illustrations et des photos pour représenter la personne que tu aimerais être dans 15 ans. Utilisez l’internet, des magazines, des photos,  etc.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Énumérez 5 choses vous pourrez faire dans les prochaines années pour atteindre vos objectif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4" descr="MCj04058920000[1]"/>
          <p:cNvPicPr/>
          <p:nvPr/>
        </p:nvPicPr>
        <p:blipFill>
          <a:blip r:embed="rId1"/>
          <a:stretch/>
        </p:blipFill>
        <p:spPr>
          <a:xfrm>
            <a:off x="152280" y="0"/>
            <a:ext cx="1676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ES QUES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904760" y="17521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genre d’emploi au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université, collège communautaire, cours prendrez-vous pour obtenir votre emploi de choi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ù viv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i seront les personnes importantes dans votre vie? Est-ce que vous aurez des animaux domestiq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Quels seront vos loisi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les choses voulez-vous apprendre? (langue, instrument, sport etc.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  est-ce que vous serez un membre actif dans votre communa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 (un ent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, u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e, participer dans des organisations culturelles/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ieuse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EL GENRE D’EMPLOI AUREZ-VOUS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’aimerai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e une enseigna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C:\Documents and Settings\Michelle.Skead\Local Settings\Temporary Internet Files\Content.IE5\P0USHBD3\MC900029925[1].wmf"/>
          <p:cNvPicPr/>
          <p:nvPr/>
        </p:nvPicPr>
        <p:blipFill>
          <a:blip r:embed="rId1"/>
          <a:stretch/>
        </p:blipFill>
        <p:spPr>
          <a:xfrm>
            <a:off x="4419720" y="3200400"/>
            <a:ext cx="22096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ME AUDOU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ILLE D’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ALU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905120"/>
          <a:ext cx="7315200" cy="4336920"/>
        </p:xfrm>
        <a:graphic>
          <a:graphicData uri="http://schemas.openxmlformats.org/drawingml/2006/table">
            <a:tbl>
              <a:tblPr/>
              <a:tblGrid>
                <a:gridCol w="2394000"/>
                <a:gridCol w="1152360"/>
                <a:gridCol w="1068480"/>
                <a:gridCol w="1349280"/>
                <a:gridCol w="13510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ellen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fa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ès b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ep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uffisan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omp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ressez la liste de questions dans une manière qui montre une pensée approfondi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vous avez des photos/illustrations qui représentent vos réponses ? Avez-vous utilisé la créativité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c’est propre ? Claire ? Écrit dans un bon franç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135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2:21:11Z</dcterms:created>
  <dc:creator>ED18</dc:creator>
  <dc:description/>
  <dc:language>en-US</dc:language>
  <cp:lastModifiedBy>ED18</cp:lastModifiedBy>
  <dcterms:modified xsi:type="dcterms:W3CDTF">2014-11-26T02:22:55Z</dcterms:modified>
  <cp:revision>2</cp:revision>
  <dc:subject/>
  <dc:title> Portrait dans l’avenir</dc:title>
</cp:coreProperties>
</file>